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3CA0E3-50DB-431D-A41E-1D1CB7BF48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8764DD-8E4C-4712-96AC-BE1752681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60086F-6181-4D36-9EBE-7524E99D796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96EB1D-48A5-49AF-B385-825AACE846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BC7A60-DE74-4302-8FB1-A9E458C4055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9C6206-5ED6-48E1-9729-09923D1B25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6B7FC-E61F-48BC-9423-A2D783827FC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6D2A4-18D0-4B33-8DD1-9DB118D7500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5EBD3F-1E53-4A60-B14D-D1F3BBF91B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A73BB4-64C0-4113-A18A-934D440C0D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822684-C72C-44B9-B330-7D80FB3810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89F19-B49F-4052-A506-7836A526DC8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80CEBA9-4CA6-49D3-A3E3-49109D6138B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898989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1-06T05:20:24Z</dcterms:created>
  <dc:creator/>
  <dc:description/>
  <dc:language>en-US</dc:language>
  <cp:lastModifiedBy/>
  <dcterms:modified xsi:type="dcterms:W3CDTF">2013-01-06T05:20:48Z</dcterms:modified>
  <cp:revision>1</cp:revision>
  <dc:subject/>
  <dc:title/>
</cp:coreProperties>
</file>