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54278"/>
        <c:axId val="93601239"/>
      </c:barChart>
      <c:catAx>
        <c:axId val="33454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01239"/>
        <c:crosses val="autoZero"/>
        <c:auto val="1"/>
        <c:lblAlgn val="ctr"/>
        <c:lblOffset val="100"/>
        <c:noMultiLvlLbl val="0"/>
      </c:catAx>
      <c:valAx>
        <c:axId val="93601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54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8A1-32FD-4349-9451-5B03FDD9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6F7-CAC2-444F-80C9-F010C38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CA0-0A75-4118-85C3-2CF77084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4C8-53C2-461B-AB13-FEA240D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353-463A-4B30-AB21-8D6C5D5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703-55AE-4DB6-A206-76FE5A07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ACC-C3A7-4373-B9D2-BE4FCF02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6F9-F24C-4190-8DEB-63DB657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CD0-C5F8-41FD-8881-354214E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5C6-5AC2-47D0-BE39-5A133DCF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262-C978-4FF8-BED7-F6610EA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DFD-AB33-49BE-83B0-5DA5D59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620D-178C-4ED5-8CD4-757FB3D0B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