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07076"/>
        <c:axId val="61367271"/>
      </c:barChart>
      <c:catAx>
        <c:axId val="25507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67271"/>
        <c:crosses val="autoZero"/>
        <c:auto val="1"/>
        <c:lblAlgn val="ctr"/>
        <c:lblOffset val="100"/>
        <c:noMultiLvlLbl val="0"/>
      </c:catAx>
      <c:valAx>
        <c:axId val="61367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07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6C1-8614-4A4D-B6E3-0EC34280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ECA-0A50-48D6-929D-4A7C582C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DC0-F393-4ACB-90C5-F984B632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BB7-DC37-470B-A434-855AC00C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1E6-1646-46AE-9F7D-C0EF1F94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C69-B8D2-4199-9AE9-B73EF72A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A6E-F9CE-4F3D-8915-DC870EFE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E63-38E2-43AE-982A-CF776276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6B6-E440-4D01-938E-A81FA647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DE3-0B31-4405-B93E-B18A1CE5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0F6-93A7-4494-8CEF-3B1BB9A7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DF6-B52A-4A6E-9CB7-07C9AD93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C1D0C-A7A6-4D8C-939B-CBBF38B996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