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32086"/>
        <c:axId val="81380207"/>
      </c:barChart>
      <c:catAx>
        <c:axId val="19032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0207"/>
        <c:crosses val="autoZero"/>
        <c:auto val="1"/>
        <c:lblAlgn val="ctr"/>
        <c:lblOffset val="100"/>
        <c:noMultiLvlLbl val="0"/>
      </c:catAx>
      <c:valAx>
        <c:axId val="81380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2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FB8-E656-41AA-824E-29F0526C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EB7-F64E-4176-8F7C-249ACD6D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E7FB-AADD-4D94-8176-2DA8949D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778-0179-47B3-889C-198986D6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6D5-DE59-4B36-95BC-2B2BBCED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40F-5CBA-49EE-A753-E646CB80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AB3-6195-42C8-8DD5-7D3B5898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63D7-77FA-4E8F-B2EF-E3F2A216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B11-1606-4A36-A4CD-8BE51177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7E9-2993-43EC-9C77-FD334A8D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E25-0D91-49C7-B196-6EE7E5A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F4D-C439-4788-8C5E-E1CDBD56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8D254-1F7F-4BCA-A647-E76BC4F187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