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1631738"/>
        <c:axId val="1055259"/>
      </c:barChart>
      <c:catAx>
        <c:axId val="2163173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55259"/>
        <c:crosses val="autoZero"/>
        <c:auto val="1"/>
        <c:lblAlgn val="ctr"/>
        <c:lblOffset val="100"/>
        <c:noMultiLvlLbl val="0"/>
      </c:catAx>
      <c:valAx>
        <c:axId val="105525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63173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6B74C-09AA-4BDA-9AEF-CA4577A83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FCF4A-E4BB-444D-8610-63E8245F2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98CEF-5EEC-4497-9DF4-D5AD7CEBE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731CE-C038-4900-9B3F-A0EA6E8AE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C94FA-077D-4A2C-A661-61F04A1EF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96240-CE2E-480E-8BBE-5D85B20B7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F0A5D-24FC-492E-B95E-87472C28A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61FEA-63E0-4CD3-8758-767AD482A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F5C49-9893-4A1C-BC60-0CCC27CF6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3758A-78D5-4C94-8BD7-A617605FC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22DA7-CE4E-4B5F-AF63-BFAB1F575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CC2CB-6AD3-4F3C-8E7A-442DCF905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7685C6-A705-40F7-A7AD-132C43311FA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