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63532"/>
        <c:axId val="24870506"/>
      </c:barChart>
      <c:catAx>
        <c:axId val="35863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70506"/>
        <c:crosses val="autoZero"/>
        <c:auto val="1"/>
        <c:lblAlgn val="ctr"/>
        <c:lblOffset val="100"/>
        <c:noMultiLvlLbl val="0"/>
      </c:catAx>
      <c:valAx>
        <c:axId val="248705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63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BC7-77D4-40F5-9A68-BDFCD483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F6F8-6FE8-4163-95C8-7D5F0464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C429-0C94-4231-ABD5-D7291D67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8A8E-0ABA-4A48-AC3D-440E6025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5448-FB45-4AE6-97F6-81ACC4A8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8EB3-CDB8-4536-B865-3CBAFA6D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928-91E8-4790-8D91-5FCC757D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60A-95E9-485D-A7C3-D0B88CB4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338-E9F3-4BDB-B4BB-E80105B0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7DD-0DE3-4233-A9E8-FFFBCB9C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5A35-1136-40B3-BD24-2B709204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E8B-6688-44BB-9B93-8DD55D21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7AA4F-626B-4EE1-97FF-E4E9EF6994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