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52877"/>
        <c:axId val="24231070"/>
      </c:barChart>
      <c:catAx>
        <c:axId val="22152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1070"/>
        <c:crosses val="autoZero"/>
        <c:auto val="1"/>
        <c:lblAlgn val="ctr"/>
        <c:lblOffset val="100"/>
        <c:noMultiLvlLbl val="0"/>
      </c:catAx>
      <c:valAx>
        <c:axId val="24231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52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CDF-868A-4762-922A-A975A9A5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42A-29C7-496D-99B1-9593EE2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19E-A338-434D-9A76-634BB22D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9C9-FC4A-4ECE-8C0D-33F35737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27A-657C-4683-A33B-3F2F02F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ECB-6501-480B-81E3-E4EFED68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D42-1920-4F20-A32A-BE154B1C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0A1-C2F7-446C-B96C-8DD04324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575-1E20-4689-802D-584B7862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1D7-08CA-4552-A5F6-2FD5C7BD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83F-5EDC-4DA2-83E6-F8812DEE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EDB-F2E2-4052-8B3D-4DAA706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29D8F-36E6-4115-940B-7B6D219783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