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62912"/>
        <c:axId val="59390206"/>
      </c:barChart>
      <c:catAx>
        <c:axId val="65562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90206"/>
        <c:crosses val="autoZero"/>
        <c:auto val="1"/>
        <c:lblAlgn val="ctr"/>
        <c:lblOffset val="100"/>
        <c:noMultiLvlLbl val="0"/>
      </c:catAx>
      <c:valAx>
        <c:axId val="59390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62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17F-0DFD-4B3B-ADA6-8DBC5184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0A3-3B2B-454D-A9F2-E0D938B1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DB3-A6B5-4BFF-8561-BD3BC520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5F6-B09A-434D-ADDD-76092A88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9AA-A958-4A94-87B0-B605242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58B-1DBE-4091-AAF1-546BF062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BC0-FF41-423D-B8E4-C416F2A1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083-F4E4-4EFC-8575-EBB8120E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7C6-91D8-4789-820F-A89B8892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48B-967D-4527-A13B-14BFAC56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C04-A963-4C68-8AE4-866FF9DC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CC7-5997-456C-AD10-757AF075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9D311-52C1-4EBA-86AD-82FFC55AC0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