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649"/>
        <c:axId val="26489758"/>
      </c:barChart>
      <c:catAx>
        <c:axId val="2610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9758"/>
        <c:crosses val="autoZero"/>
        <c:auto val="1"/>
        <c:lblAlgn val="ctr"/>
        <c:lblOffset val="100"/>
        <c:noMultiLvlLbl val="0"/>
      </c:catAx>
      <c:valAx>
        <c:axId val="26489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E94-8214-4625-94AD-BF90DBC5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6D4-4DBB-4ADE-B324-55530F99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A5-9FD9-4E55-8BC5-5118BCE4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A1B-9B74-408A-834D-CE18D319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F90-E0D0-4C48-94BF-F36D15B2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091-556B-41F3-BED0-3EA4EEB5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399-11C1-4DD9-87D4-BF56EF91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D48-C967-4D04-B550-B1B15DB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13D-CDD3-45A7-B23B-ED100687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5F9-9563-41C7-BA11-A61A1D8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053-F76A-43A1-8E8E-4897806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E28-C8E9-49BA-904E-17678F5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6CDB-C98C-482D-ABBA-0D94B57DDD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