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22374"/>
        <c:axId val="96664710"/>
      </c:barChart>
      <c:catAx>
        <c:axId val="77822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4710"/>
        <c:crosses val="autoZero"/>
        <c:auto val="1"/>
        <c:lblAlgn val="ctr"/>
        <c:lblOffset val="100"/>
        <c:noMultiLvlLbl val="0"/>
      </c:catAx>
      <c:valAx>
        <c:axId val="96664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2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252-D42F-4216-A39C-2ADCBB1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015-5E30-4FDA-A281-28630AAB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688-0A41-4020-AE51-772EBBD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E9A-D7CC-463F-A7BA-B4833E01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21C-46C9-4771-B7CC-5BC2858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FF4-0A56-4464-AE73-E9D420ED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7D5-2CA5-4E31-A86F-3DCEF133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BA9-34A7-49A0-9DCA-DDC36B6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F15-D921-4759-9E12-66EA8A9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261-C225-458E-BD80-3A3AFC2E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06A-EFF0-4AA7-BF77-FE28CAD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CC6-CA83-488D-B575-C5CCC77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082BB-19FC-4BEA-9DEF-B6C438CE8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