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29407"/>
        <c:axId val="99580102"/>
      </c:barChart>
      <c:catAx>
        <c:axId val="95829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80102"/>
        <c:crosses val="autoZero"/>
        <c:auto val="1"/>
        <c:lblAlgn val="ctr"/>
        <c:lblOffset val="100"/>
        <c:noMultiLvlLbl val="0"/>
      </c:catAx>
      <c:valAx>
        <c:axId val="99580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29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FB4-C939-4A93-869E-632F41FE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B99-C142-480C-B3E2-341D2A4D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F79-48E2-4B96-8E30-2361014F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14E-B240-4E83-B188-E4ED3F3E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DAF-269E-445C-91DE-A07EB6B3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609-1BE7-4C79-99D6-1F5CA600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4CF-B065-4CC7-84D8-A3AE854D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D09-7874-4960-8A3D-A822B2C1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A71-BF08-473A-95B3-5BA2F792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062-3C89-48B6-B5A1-A92D3770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DC0-4F27-4BFF-82F7-AC0F22DF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DABF-59B3-482C-B070-6D9D74D0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37C2B-9AD4-439B-B79F-9CAC134DDC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