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23C7E-C56F-4F1B-83C0-0D07486B9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1624C-2DB1-4AB7-9D4E-22B6C8E92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08A25-6FA9-4733-A4E8-4F5785E26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F1204-D4EE-45AD-A51D-E15AB4A63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F168E-BC02-4B74-BB0A-5D8DC5A02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9AC43-78D2-4DA2-8E40-92CFE527F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35157-6B18-4A44-98DD-392789EDB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4E9FF-5C2E-4A8E-8A14-5D71E4287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5FB6C-B97F-4D44-B938-584FD1FF7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09C2C-3DFB-4820-BA11-6F8FDDD11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21837-7514-4B47-8249-4FF1A5E4C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27435-823E-4A8B-BC35-5887F737F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36FC9-919D-41F1-AF3B-4AE13CD4C1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356000" y="3645000"/>
            <a:ext cx="459000" cy="45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1-30T10:21:24Z</dcterms:created>
  <dc:creator>user</dc:creator>
  <dc:description/>
  <dc:language>en-US</dc:language>
  <cp:lastModifiedBy>user</cp:lastModifiedBy>
  <dcterms:modified xsi:type="dcterms:W3CDTF">2017-11-30T10:21:38Z</dcterms:modified>
  <cp:revision>1</cp:revision>
  <dc:subject/>
  <dc:title>Test</dc:title>
</cp:coreProperties>
</file>